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3523-7486-46DF-B722-F42199BB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9D30-1CBA-4D52-B188-8FF23747F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0FB4-2601-4A6D-8D86-5499AF40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bjective of this research is 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ch as these fig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……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mentioned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0: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B9EF-366C-47AE-BD5A-B48A45AF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1D07-EF70-4853-BD0B-0233CDB8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78AB-5691-4276-A02A-3E4C9490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44CD-315C-41F6-9701-A240BFDD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429F-D46B-423D-AFFD-6C5D96E2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004F-2854-496F-A8B0-9601D537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0EAF-B8DF-4AA0-AD09-86097A0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19D6-2BBF-42BB-8420-D9815EBE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B78-0AFE-4259-9395-3AD0470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8401-034B-4CEE-A536-CEC360BA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946-9DCA-4EBF-9103-35B5D93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1A20-8F5E-4F2A-A65F-98BE7289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353B-9F31-438B-A8B2-3DC57B7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ECE5-F0FA-4C34-990C-EF7BAB1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AED4-599F-43B8-A247-9CB63BC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51EA-43AE-444D-AFE6-77D98031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B4DA-CD41-451C-AAA0-3C780EA5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C231-4A56-44CD-9CA7-D25A15F6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58AF-03D3-4043-9325-67663903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5B1E-4D2F-4039-B389-5D99D8C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848D-4D4E-4AE5-BF85-3D28290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78EE-1C0D-407C-AB36-EC59551F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BBB4-C9C4-4FD9-8D04-8F454204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7A0E-535D-4F75-8121-B6EE67AD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8316-732B-483F-BDE6-2443BB2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AC7E-C327-441B-AAD1-925AEED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9D92-5F3B-4810-8BC9-2AD4260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D200-0DCB-486D-BCF8-AF2A24AB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6EC4-13BA-4353-8119-F7CE4AF2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1418-6AA3-4893-A6B0-90FD8E43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D937-17BE-4C6B-9FD3-C7CD84C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5C33-CAE5-4DD8-ABB3-F1ABDA2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A3B1-DE51-4621-AD8E-707536F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B87E-C84E-466F-8F18-C048B33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9C71-40A8-4244-A6C0-13725C0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E57E-493E-4CC7-AC9B-0D67460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A8FE-3991-4296-805E-379EFC9CE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FE9-81C4-4464-969A-1D0B56C0F1D4}" type="slidenum">
              <a:rPr b="0" lang="ja-JP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D56-706B-4449-951D-D99542B7A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38600" y="0"/>
            <a:ext cx="630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-3240" y="0"/>
            <a:ext cx="932040" cy="688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takamasu-takahashi02"/>
          <p:cNvPicPr/>
          <p:nvPr/>
        </p:nvPicPr>
        <p:blipFill>
          <a:blip r:embed="rId3"/>
          <a:stretch/>
        </p:blipFill>
        <p:spPr>
          <a:xfrm>
            <a:off x="928800" y="0"/>
            <a:ext cx="2500200" cy="154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takamasu\Documents\BUN\知的ナノメートル分科会\パンフレット2007\高橋写真.jpg"/>
          <p:cNvPicPr/>
          <p:nvPr/>
        </p:nvPicPr>
        <p:blipFill>
          <a:blip r:embed="rId4"/>
          <a:stretch/>
        </p:blipFill>
        <p:spPr>
          <a:xfrm>
            <a:off x="1298520" y="4548240"/>
            <a:ext cx="1103400" cy="201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Users\takamasu\Documents\BUN\知的ナノメートル分科会\パンフレット2007\図\a高増.jpg"/>
          <p:cNvPicPr/>
          <p:nvPr/>
        </p:nvPicPr>
        <p:blipFill>
          <a:blip r:embed="rId5"/>
          <a:stretch/>
        </p:blipFill>
        <p:spPr>
          <a:xfrm>
            <a:off x="1146240" y="1878120"/>
            <a:ext cx="1431720" cy="2023920"/>
          </a:xfrm>
          <a:prstGeom prst="rect">
            <a:avLst/>
          </a:prstGeom>
          <a:ln w="0">
            <a:noFill/>
          </a:ln>
        </p:spPr>
      </p:pic>
      <p:pic>
        <p:nvPicPr>
          <p:cNvPr id="149" name="テキスト ボックス 10" descr=""/>
          <p:cNvPicPr/>
          <p:nvPr/>
        </p:nvPicPr>
        <p:blipFill>
          <a:blip r:embed="rId6"/>
          <a:stretch/>
        </p:blipFill>
        <p:spPr>
          <a:xfrm>
            <a:off x="1243080" y="3462480"/>
            <a:ext cx="1384200" cy="744480"/>
          </a:xfrm>
          <a:prstGeom prst="rect">
            <a:avLst/>
          </a:prstGeom>
          <a:ln w="0">
            <a:noFill/>
          </a:ln>
        </p:spPr>
      </p:pic>
      <p:pic>
        <p:nvPicPr>
          <p:cNvPr id="150" name="テキスト ボックス 11" descr=""/>
          <p:cNvPicPr/>
          <p:nvPr/>
        </p:nvPicPr>
        <p:blipFill>
          <a:blip r:embed="rId7"/>
          <a:stretch/>
        </p:blipFill>
        <p:spPr>
          <a:xfrm>
            <a:off x="1085760" y="6168960"/>
            <a:ext cx="1333440" cy="725400"/>
          </a:xfrm>
          <a:prstGeom prst="rect">
            <a:avLst/>
          </a:prstGeom>
          <a:ln w="0">
            <a:noFill/>
          </a:ln>
        </p:spPr>
      </p:pic>
      <p:pic>
        <p:nvPicPr>
          <p:cNvPr id="151" name="正方形/長方形 9" descr=""/>
          <p:cNvPicPr/>
          <p:nvPr/>
        </p:nvPicPr>
        <p:blipFill>
          <a:blip r:embed="rId8"/>
          <a:stretch/>
        </p:blipFill>
        <p:spPr>
          <a:xfrm>
            <a:off x="847800" y="1835280"/>
            <a:ext cx="8272440" cy="26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-3240" y="0"/>
            <a:ext cx="932040" cy="688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takamasu-takahashi02"/>
          <p:cNvPicPr/>
          <p:nvPr/>
        </p:nvPicPr>
        <p:blipFill>
          <a:blip r:embed="rId2"/>
          <a:stretch/>
        </p:blipFill>
        <p:spPr>
          <a:xfrm>
            <a:off x="928800" y="0"/>
            <a:ext cx="2500200" cy="154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ttp://www.polyhedra.jp/images/jitter02.gif"/>
          <p:cNvPicPr/>
          <p:nvPr/>
        </p:nvPicPr>
        <p:blipFill>
          <a:blip r:embed="rId3"/>
          <a:stretch/>
        </p:blipFill>
        <p:spPr>
          <a:xfrm>
            <a:off x="3456000" y="71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http://www.polyhedra.jp/images/jitter03.gif"/>
          <p:cNvPicPr/>
          <p:nvPr/>
        </p:nvPicPr>
        <p:blipFill>
          <a:blip r:embed="rId4"/>
          <a:stretch/>
        </p:blipFill>
        <p:spPr>
          <a:xfrm>
            <a:off x="4813200" y="71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http://www.polyhedra.jp/images/jitter04.gif"/>
          <p:cNvPicPr/>
          <p:nvPr/>
        </p:nvPicPr>
        <p:blipFill>
          <a:blip r:embed="rId5"/>
          <a:stretch/>
        </p:blipFill>
        <p:spPr>
          <a:xfrm>
            <a:off x="6170760" y="71280"/>
            <a:ext cx="1285560" cy="1285920"/>
          </a:xfrm>
          <a:prstGeom prst="rect">
            <a:avLst/>
          </a:prstGeom>
          <a:ln w="0">
            <a:noFill/>
          </a:ln>
        </p:spPr>
      </p:pic>
      <p:sp>
        <p:nvSpPr>
          <p:cNvPr id="157" name="テキスト ボックス 17"/>
          <p:cNvSpPr/>
          <p:nvPr/>
        </p:nvSpPr>
        <p:spPr>
          <a:xfrm>
            <a:off x="7507080" y="10000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TESTALL4"/>
          <p:cNvPicPr/>
          <p:nvPr/>
        </p:nvPicPr>
        <p:blipFill>
          <a:blip r:embed="rId6"/>
          <a:stretch/>
        </p:blipFill>
        <p:spPr>
          <a:xfrm>
            <a:off x="1160640" y="4986360"/>
            <a:ext cx="23396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http://www.nanolab.t.u-tokyo.ac.jp/~takamasu/P10004411.jpg"/>
          <p:cNvPicPr/>
          <p:nvPr/>
        </p:nvPicPr>
        <p:blipFill>
          <a:blip r:embed="rId7"/>
          <a:srcRect l="0" t="14291" r="0" b="21436"/>
          <a:stretch/>
        </p:blipFill>
        <p:spPr>
          <a:xfrm>
            <a:off x="3476520" y="1428840"/>
            <a:ext cx="2667240" cy="1285920"/>
          </a:xfrm>
          <a:prstGeom prst="rect">
            <a:avLst/>
          </a:prstGeom>
          <a:ln w="0">
            <a:noFill/>
          </a:ln>
        </p:spPr>
      </p:pic>
      <p:pic>
        <p:nvPicPr>
          <p:cNvPr id="160" name="kuma.mpg" descr=""/>
          <p:cNvPicPr/>
          <p:nvPr/>
        </p:nvPicPr>
        <p:blipFill>
          <a:blip r:embed="rId8"/>
          <a:stretch/>
        </p:blipFill>
        <p:spPr>
          <a:xfrm>
            <a:off x="1160640" y="2857680"/>
            <a:ext cx="2339640" cy="1800000"/>
          </a:xfrm>
          <a:prstGeom prst="rect">
            <a:avLst/>
          </a:prstGeom>
          <a:ln w="0">
            <a:noFill/>
          </a:ln>
        </p:spPr>
      </p:pic>
      <p:pic>
        <p:nvPicPr>
          <p:cNvPr id="161" name="parademo.wmv" descr=""/>
          <p:cNvPicPr/>
          <p:nvPr/>
        </p:nvPicPr>
        <p:blipFill>
          <a:blip r:embed="rId9"/>
          <a:stretch/>
        </p:blipFill>
        <p:spPr>
          <a:xfrm>
            <a:off x="6161040" y="285768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62" name="3motorDemo.WMV" descr=""/>
          <p:cNvPicPr/>
          <p:nvPr/>
        </p:nvPicPr>
        <p:blipFill>
          <a:blip r:embed="rId10"/>
          <a:stretch/>
        </p:blipFill>
        <p:spPr>
          <a:xfrm>
            <a:off x="3660840" y="285768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63" name="lego-para2000sep.mpg" descr=""/>
          <p:cNvPicPr/>
          <p:nvPr/>
        </p:nvPicPr>
        <p:blipFill>
          <a:blip r:embed="rId11"/>
          <a:stretch/>
        </p:blipFill>
        <p:spPr>
          <a:xfrm>
            <a:off x="3660840" y="498636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ara2000A.mpg" descr=""/>
          <p:cNvPicPr/>
          <p:nvPr/>
        </p:nvPicPr>
        <p:blipFill>
          <a:blip r:embed="rId12"/>
          <a:stretch/>
        </p:blipFill>
        <p:spPr>
          <a:xfrm>
            <a:off x="6161040" y="4986360"/>
            <a:ext cx="234000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17"/>
          <p:cNvSpPr/>
          <p:nvPr/>
        </p:nvSpPr>
        <p:spPr>
          <a:xfrm>
            <a:off x="6282000" y="23572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eg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正方形/長方形 15" descr=""/>
          <p:cNvPicPr/>
          <p:nvPr/>
        </p:nvPicPr>
        <p:blipFill>
          <a:blip r:embed="rId13"/>
          <a:stretch/>
        </p:blipFill>
        <p:spPr>
          <a:xfrm>
            <a:off x="1011240" y="2266920"/>
            <a:ext cx="7815240" cy="2603520"/>
          </a:xfrm>
          <a:prstGeom prst="rect">
            <a:avLst/>
          </a:prstGeom>
          <a:ln w="0">
            <a:noFill/>
          </a:ln>
        </p:spPr>
      </p:pic>
      <p:sp>
        <p:nvSpPr>
          <p:cNvPr id="167" name="角丸四角形 19"/>
          <p:cNvSpPr/>
          <p:nvPr/>
        </p:nvSpPr>
        <p:spPr>
          <a:xfrm>
            <a:off x="7929720" y="150012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60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39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423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01747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51Z</dcterms:created>
  <dc:creator>User</dc:creator>
  <dc:description/>
  <dc:language>en-US</dc:language>
  <cp:lastModifiedBy>takamasu</cp:lastModifiedBy>
  <dcterms:modified xsi:type="dcterms:W3CDTF">2007-05-16T08:42:21Z</dcterms:modified>
  <cp:revision>60</cp:revision>
  <dc:subject/>
  <dc:title>A Novel Microfabrication Technique for Three-Dimensional Metal Structures by Photocatalysis</dc:title>
</cp:coreProperties>
</file>